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3B05-44E4-4A8F-85F3-EB8019F7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8E93-FBCB-4738-86AF-532FC82D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ECD-379D-4CF8-9EEE-AA7B5EBE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25C-F8ED-4078-88FA-E7D9F499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47D5-CC93-4EDE-972E-D571F629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92DB-A1A0-4EFB-8791-05C174B6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9B81-0B79-4BC4-9D0B-45F95807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AC25-BABC-4EC7-B3F9-C4CDA698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693B-75ED-4131-B816-742E14CA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E189-5419-4226-9F34-000D2EC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2024-5952-4EA6-8805-5D17F73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457-29FD-4A81-9AF9-4B766A3A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F724-328E-449C-BA88-5DB7A340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92B9-B4A6-43A4-9E47-BB9035EA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01DB-9F07-41F6-A064-DE14D5BE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6EDE-93AF-4064-A3C2-AE3BFD66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D8BD-84C7-4638-8CF9-3BD4DD6A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479-20A5-4761-9A9C-ABC849B1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003-F69C-47E2-9958-541E883F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96A-9944-43C5-A147-DBBA58A1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D3B-D153-4C19-B7DD-D55CFC78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7CF-5C8D-4E06-9460-E01D435A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CC3-69AA-4473-8EDD-E646C09C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BE46-BA61-4348-B5C4-A4A9469B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53CB-36E3-4AA1-BFB9-381D9033F9B4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E7AE-5E99-400A-A5CC-8657E7FC9D05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 Write the fraction so that it will “criss-cross”: the bottom will have the same unit as the previous fraction’s top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We will choo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6.  Repeat steps 4-5 until you reach an equivalence that includes your ending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he next and last equivalence wi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0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step seven that you prefer. 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.  Your answer will be this division: (All the top numbers multiplied together)/(All the bottom numbers multiplied together) and your final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(2 x 60 x 60)/(1 x 1 x 1) sec = 7200 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7.  Do each division one at a time, and multiply them as you go a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(2/1) x (60/1) x (60/1) sec = 2 x 60 x 60 sec = 7200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8.  Round your final answer to the same number of sig figs as your starting measu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: 2 hours has 1 sig fig.  7200 seconds -&gt; 7000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, shorte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econds are in five minutes?  Before we write it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our starting and finishing un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quivalences will we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 ha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inutes is 47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econds is 1.89 d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equivalences given on the handout to do this one with 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feet are in 2 me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meters are in 850 in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boar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Dimens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actic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write ten dimensional analysis problems for anothe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artner, write the quiz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artner, write the answer key INCLUDING AL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order to get a problem correct, they must show all work with units by every number, and have their answer in the correct sig fi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convert between units using dimens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helpful skill in science, and one that will get especially helpful in chemistry and physics… Dimens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also be another way of converting prefixes that some of you may prefer to hopping the decimal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take PRACTICE to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mensional analysis is a method of converting a measurement from one unit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: How many seconds is 2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72200" y="4626000"/>
            <a:ext cx="2971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most important in any dimensional analysi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 Identify the unit your measurement is already in, and identify the unit you want your measurement to end up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 Measurement is already in hours.  We want it in second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 If you don’t know how many of your starting unit directly equals your ending unit, make a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know off the top of my head how many seconds are in an hour, for instance.  But I know how many seconds are in a minute, and how many minutes are in an hour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: Hours -&gt; Minutes -&gt; Seconds will be my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 Begin your chain with your starting measurement  Write it as a fraction with a denominator of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PER SUPER IMPOR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DOING THESE PROBLEMS TO ALWAYS WRITE YOUR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 The next fraction in your chain will be an “equivalence.”  The top of the fraction equals the bot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t wi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0 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or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h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324480" y="4848120"/>
            <a:ext cx="20098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4:55:19Z</dcterms:created>
  <dc:creator>Rebecca Stang</dc:creator>
  <dc:description/>
  <dc:language>en-US</dc:language>
  <cp:lastModifiedBy>Rebecca Stang</cp:lastModifiedBy>
  <dcterms:modified xsi:type="dcterms:W3CDTF">2009-10-04T15:22:34Z</dcterms:modified>
  <cp:revision>23</cp:revision>
  <dc:subject/>
  <dc:title>Dimensional Analysis</dc:title>
</cp:coreProperties>
</file>